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B0A-8911-47FE-9206-64820D5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168-B50C-4162-AF3D-63AE999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843-1201-46BF-8EE8-C412D6E0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E68-9EFC-4ED9-9048-BF322FA2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2E8-54AD-4BFA-A3BF-8B75D7F1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B82-841F-4871-9FA8-2933D823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425-DA18-45DF-B079-D0811B1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B6F-AA6D-448D-8B87-259CF533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ED0-D564-48A3-BEB5-5A9E594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F6D-F5EA-4B38-8FC6-955A0BB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60B-A9EA-4BD9-8431-C410E52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95C-66C9-4C57-8BDF-D50825B6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13D-9CDA-4CD1-BBB6-48C0A03C1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rbanlegends.about.com/library/n_saddam_capture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topics.cnn.com/topics/Iraq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3720" y="5714640"/>
            <a:ext cx="579132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an AND A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IR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AKA HOME OF THE TOWEL 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nytimes.com/2005/08/16/international/middleeast/16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geography.about.com/b/2007/05/08/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life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-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expectancy-in-iraq</a:t>
            </a: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.htm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https://www.cia.gov/library/publications/the-world-factbook/print/iz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www.worldinfozone.com/country.php?country=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Iraq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54100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ocation: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Landforms: desert, Some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ater systems: U.S., some mar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Natural Resources: Oil, 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952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limate: Dry, Hot, and 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ildlife: Bugs, Birds, and 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4816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ik Humam Hamoudi, chairman of the constitutional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i Izara al-Majoun of the United Iraqi Alli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990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expectan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s=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= 6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133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= 28,221,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Capture of Saddam Husse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History and current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370368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metime in 2003 we invaded Ira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December 13</a:t>
            </a:r>
            <a:r>
              <a:rPr b="0" lang="en-US" sz="3200" spc="-1" strike="noStrike" baseline="30000">
                <a:solidFill>
                  <a:srgbClr val="00cc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2003: Saddams ca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438280"/>
            <a:ext cx="4419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BAGHDAD, Iraq (CNN) -- A roadside bomb attack on Monday killed two U.S. soldiers in Baghdad, the U.S. military sai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Another soldier was wounded in the attack and taken to a combat support hospital, according to military spokesman Lt. David Russ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The deaths follow an incident Saturday in which a U.S. soldier died and two others were injured when their vehicle rolled over at a forward operating base near Balad, north of Baghdad, Russell sai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July marked the lowest monthly toll of the war, with 11 U.S. troop deaths -- six killed in hostilities and five dying from causes not related to combat, according to a CNN count of figures released by the Pentag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With the three deaths in August, 4,130 U.S. military personnel have died since th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raq</a:t>
            </a:r>
            <a:r>
              <a:rPr b="1" lang="en-US" sz="1400" spc="-1" strike="noStrike">
                <a:solidFill>
                  <a:srgbClr val="00cc00"/>
                </a:solidFill>
                <a:latin typeface="Arial"/>
              </a:rPr>
              <a:t> war began in 200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1143000"/>
            <a:ext cx="228600" cy="12193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Economy in Ir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Industry: Oil an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Major Exports: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rrency: D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Clothes: they were same clothes as us just some aren’t our brand like hollister. Some women and men are fully covered in 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Foods: Soups and stews are prepared with vegetables and meat. Beef, lamb, poultry, and fish are eaten with rice and vegetables: aubergines, beans, chickpeas, lentils, okra, onions, peppers, potatoes and tomato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Culture c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anguage: Arabic is the main language. Kurdish is the official language in the Kurdish regions of Iraq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Religion: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rchitecture/Building styles: Shanas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ourist Attractions: Saddams hiding place, since capture this place is bang’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Historical Places: The Umayyad Mosque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The first ever in the city, built in 640 AD by Utba bin Farqad Al-Salami after he conquered Mosul in the reign of Caliph Omar ibn Al-Khattab. The only part still extant is the remarkably elaborate brickwork 52 m high minaret that leans like the Tower of Pisa, called Al-Hadba (The Humped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0:05Z</dcterms:created>
  <dc:creator>ethanrlawson</dc:creator>
  <dc:description/>
  <dc:language>en-US</dc:language>
  <cp:lastModifiedBy>ethanrlawson</cp:lastModifiedBy>
  <dcterms:modified xsi:type="dcterms:W3CDTF">2009-02-24T14:41:07Z</dcterms:modified>
  <cp:revision>7</cp:revision>
  <dc:subject/>
  <dc:title>Ethan AND Andy</dc:title>
</cp:coreProperties>
</file>